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0913-8C67-4FE4-A231-08530D1D2D4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9310-A628-41FD-BE03-CA81776A2EF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BEB1-1754-4E73-8D58-77708B9F9D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D8DB-B634-4A97-B26D-56BD61E53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6810-DD73-4CC0-91B1-872E05F4A2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CB55-466A-49E3-8140-319ABE9333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610D-7464-497B-B694-A7E138C53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1734-8976-4122-B1D9-DD0C4930C0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9D01-BD64-4FCB-A11A-097D275A0C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7C4F-959D-455A-BCD2-F8EDA174FB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7F42-FA85-4B6F-8338-FE8EEA089C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E18A-0710-4A3D-BEC1-EB26F093C1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8CF3-DA04-4CD4-906D-7FF7B2AF4B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4B0E-473E-4167-B0A8-CE37C2EDC8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61B81-BA9D-42B4-A32D-1BDBDC52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BE96-3FC2-4326-9C27-925AA08E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AEE05-79FB-4929-A3BB-08A54CBA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43F88-AC9D-4BD0-8603-E0F4D4E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DB309-F0CD-4801-9CA0-9679F5AC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6B3F-4FD5-4247-9A91-D3CE2498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0A7BA-5D57-48BD-AA18-43B8B20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834BE-E7E7-48B6-BE6B-F342443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ACA9-40D1-47FD-8CBD-1BAA458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FDF5E-F091-4A8A-A220-7FA58CD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BD1ED-1691-4158-94A6-05CF0409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555D3-B6B2-4103-B566-D29E231E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EFA1E-816C-464E-B142-31972FC1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AEF4A-851A-4532-B44F-D6B195CD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C8D6B-0F19-45BE-854D-77935B9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9A51D-FD7F-47B2-AF9D-8EF9FD8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E8808-DC98-460D-91C7-515903B9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DD604-0787-4408-BC83-B302F2D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9F271-A60B-47B5-8D07-E52B09A2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A3F9C-0EC7-4AAC-871A-C6E256E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77469-57F3-4F27-9845-4ECBED2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9D0DF-0110-425D-89C9-8420A9C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BEE16-0A02-4DB2-9A6B-20AF0036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1A0A7-B89E-46FF-A60A-7C8E1FB9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049B5-1EFD-416D-A00E-AE2A3EA5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242C3-F691-40F1-AA3E-6315736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3D9A7-C49F-4A2B-B5A6-B19C2DE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7CC07-8084-4513-884E-10CA166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6FF88-A6ED-4EE0-8A81-ABF9B9D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EF638-45CE-4D27-BA15-43842D1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6411C-78CA-4D36-A72A-E7EF05C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BEC09-1C22-4F0F-B831-3C308BC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0C16F-F87A-4A71-9E6C-C6A6896D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9C689-DF06-49F3-99D4-FB4E4C08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C5948-E46A-47E1-A58A-33CDFBCB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31C59-B088-4D4F-B535-DFA047DA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37313-B17C-4EDC-B764-ECA7474E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A5713-9CD2-4F81-958E-F6AFE070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870D9-6C2C-46F0-8FCF-464C4DC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AD71E-19CD-44C7-9DD8-A6FA6AD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E1E6A-D312-4503-AAA1-BABF117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16EA8-CC88-47E7-8196-E25A240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C6E4C-7AF2-422C-A724-EDC8D53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692AA-C551-4348-8A51-4C5E818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CF576-364B-43B5-B225-4A74C2B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A16AD-E776-4FEA-BC33-5A13027D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F626F-4562-4889-B3EB-5E5F2F29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2E721-BE91-465F-8E98-132B0ABE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3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4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5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3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5115240" cy="917640"/>
          </a:xfrm>
          <a:prstGeom prst="rect">
            <a:avLst/>
          </a:prstGeom>
          <a:ln w="0">
            <a:noFill/>
          </a:ln>
        </p:spPr>
      </p:pic>
      <p:pic>
        <p:nvPicPr>
          <p:cNvPr id="43" name="Slika 14" descr="C:\Users\rfiser\AppData\Local\Microsoft\Windows\INetCache\Content.Word\ppt_bg_si_hr_dvojez_main.jpg"/>
          <p:cNvPicPr/>
          <p:nvPr/>
        </p:nvPicPr>
        <p:blipFill>
          <a:blip r:embed="rId3"/>
          <a:stretch/>
        </p:blipFill>
        <p:spPr>
          <a:xfrm>
            <a:off x="826920" y="1461960"/>
            <a:ext cx="5115240" cy="795600"/>
          </a:xfrm>
          <a:prstGeom prst="rect">
            <a:avLst/>
          </a:prstGeom>
          <a:ln w="0">
            <a:noFill/>
          </a:ln>
        </p:spPr>
      </p:pic>
      <p:pic>
        <p:nvPicPr>
          <p:cNvPr id="44" name="Slika 15" descr=""/>
          <p:cNvPicPr/>
          <p:nvPr/>
        </p:nvPicPr>
        <p:blipFill>
          <a:blip r:embed="rId4"/>
          <a:stretch/>
        </p:blipFill>
        <p:spPr>
          <a:xfrm>
            <a:off x="3132000" y="847800"/>
            <a:ext cx="356256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Slika 16" descr=""/>
          <p:cNvPicPr/>
          <p:nvPr/>
        </p:nvPicPr>
        <p:blipFill>
          <a:blip r:embed="rId5"/>
          <a:stretch/>
        </p:blipFill>
        <p:spPr>
          <a:xfrm>
            <a:off x="6084720" y="1461960"/>
            <a:ext cx="2217960" cy="530280"/>
          </a:xfrm>
          <a:prstGeom prst="rect">
            <a:avLst/>
          </a:prstGeom>
          <a:ln w="0">
            <a:noFill/>
          </a:ln>
        </p:spPr>
      </p:pic>
      <p:pic>
        <p:nvPicPr>
          <p:cNvPr id="46" name="Slika 17" descr=""/>
          <p:cNvPicPr/>
          <p:nvPr/>
        </p:nvPicPr>
        <p:blipFill>
          <a:blip r:embed="rId6"/>
          <a:stretch/>
        </p:blipFill>
        <p:spPr>
          <a:xfrm>
            <a:off x="5834160" y="7308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47" name="Slika 18" descr=""/>
          <p:cNvPicPr/>
          <p:nvPr/>
        </p:nvPicPr>
        <p:blipFill>
          <a:blip r:embed="rId7"/>
          <a:stretch/>
        </p:blipFill>
        <p:spPr>
          <a:xfrm>
            <a:off x="755640" y="74448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Slika 19" descr=""/>
          <p:cNvPicPr/>
          <p:nvPr/>
        </p:nvPicPr>
        <p:blipFill>
          <a:blip r:embed="rId8"/>
          <a:stretch/>
        </p:blipFill>
        <p:spPr>
          <a:xfrm>
            <a:off x="4622760" y="847800"/>
            <a:ext cx="367992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Slika 20" descr=""/>
          <p:cNvPicPr/>
          <p:nvPr/>
        </p:nvPicPr>
        <p:blipFill>
          <a:blip r:embed="rId9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88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89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655272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4F1-799C-47F1-8813-B5851E796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2"/>
          </p:nvPr>
        </p:nvSpPr>
        <p:spPr>
          <a:xfrm>
            <a:off x="3330720" y="6259680"/>
            <a:ext cx="249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131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132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133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19F6-AE4E-45C1-B1A6-3F4871F4B96E}" type="slidenum"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176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177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178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BC5-1126-43EA-BBD4-F0B52D522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Slika 13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511524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Slika 14" descr="C:\Users\rfiser\AppData\Local\Microsoft\Windows\INetCache\Content.Word\ppt_bg_si_hr_dvojez_main.jpg"/>
          <p:cNvPicPr/>
          <p:nvPr/>
        </p:nvPicPr>
        <p:blipFill>
          <a:blip r:embed="rId3"/>
          <a:stretch/>
        </p:blipFill>
        <p:spPr>
          <a:xfrm>
            <a:off x="826920" y="1461960"/>
            <a:ext cx="5115240" cy="795600"/>
          </a:xfrm>
          <a:prstGeom prst="rect">
            <a:avLst/>
          </a:prstGeom>
          <a:ln w="0">
            <a:noFill/>
          </a:ln>
        </p:spPr>
      </p:pic>
      <p:pic>
        <p:nvPicPr>
          <p:cNvPr id="222" name="Slika 15" descr=""/>
          <p:cNvPicPr/>
          <p:nvPr/>
        </p:nvPicPr>
        <p:blipFill>
          <a:blip r:embed="rId4"/>
          <a:stretch/>
        </p:blipFill>
        <p:spPr>
          <a:xfrm>
            <a:off x="3132000" y="847800"/>
            <a:ext cx="356256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Slika 16" descr=""/>
          <p:cNvPicPr/>
          <p:nvPr/>
        </p:nvPicPr>
        <p:blipFill>
          <a:blip r:embed="rId5"/>
          <a:stretch/>
        </p:blipFill>
        <p:spPr>
          <a:xfrm>
            <a:off x="6084720" y="1461960"/>
            <a:ext cx="2217960" cy="530280"/>
          </a:xfrm>
          <a:prstGeom prst="rect">
            <a:avLst/>
          </a:prstGeom>
          <a:ln w="0">
            <a:noFill/>
          </a:ln>
        </p:spPr>
      </p:pic>
      <p:pic>
        <p:nvPicPr>
          <p:cNvPr id="224" name="Slika 17" descr=""/>
          <p:cNvPicPr/>
          <p:nvPr/>
        </p:nvPicPr>
        <p:blipFill>
          <a:blip r:embed="rId6"/>
          <a:stretch/>
        </p:blipFill>
        <p:spPr>
          <a:xfrm>
            <a:off x="5834160" y="7308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225" name="Slika 18" descr=""/>
          <p:cNvPicPr/>
          <p:nvPr/>
        </p:nvPicPr>
        <p:blipFill>
          <a:blip r:embed="rId7"/>
          <a:stretch/>
        </p:blipFill>
        <p:spPr>
          <a:xfrm>
            <a:off x="755640" y="74448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226" name="Slika 19" descr=""/>
          <p:cNvPicPr/>
          <p:nvPr/>
        </p:nvPicPr>
        <p:blipFill>
          <a:blip r:embed="rId8"/>
          <a:stretch/>
        </p:blipFill>
        <p:spPr>
          <a:xfrm>
            <a:off x="4622760" y="847800"/>
            <a:ext cx="3679920" cy="561960"/>
          </a:xfrm>
          <a:prstGeom prst="rect">
            <a:avLst/>
          </a:prstGeom>
          <a:ln w="0">
            <a:noFill/>
          </a:ln>
        </p:spPr>
      </p:pic>
      <p:pic>
        <p:nvPicPr>
          <p:cNvPr id="227" name="Slika 20" descr=""/>
          <p:cNvPicPr/>
          <p:nvPr/>
        </p:nvPicPr>
        <p:blipFill>
          <a:blip r:embed="rId9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298-4D72-4EA1-A7DD-FFE1BA9E0495}" type="slidenum"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Slika 13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5115240" cy="917640"/>
          </a:xfrm>
          <a:prstGeom prst="rect">
            <a:avLst/>
          </a:prstGeom>
          <a:ln w="0">
            <a:noFill/>
          </a:ln>
        </p:spPr>
      </p:pic>
      <p:pic>
        <p:nvPicPr>
          <p:cNvPr id="268" name="Slika 14" descr="C:\Users\rfiser\AppData\Local\Microsoft\Windows\INetCache\Content.Word\ppt_bg_si_hr_dvojez_main.jpg"/>
          <p:cNvPicPr/>
          <p:nvPr/>
        </p:nvPicPr>
        <p:blipFill>
          <a:blip r:embed="rId3"/>
          <a:stretch/>
        </p:blipFill>
        <p:spPr>
          <a:xfrm>
            <a:off x="826920" y="1461960"/>
            <a:ext cx="5115240" cy="795600"/>
          </a:xfrm>
          <a:prstGeom prst="rect">
            <a:avLst/>
          </a:prstGeom>
          <a:ln w="0">
            <a:noFill/>
          </a:ln>
        </p:spPr>
      </p:pic>
      <p:pic>
        <p:nvPicPr>
          <p:cNvPr id="269" name="Slika 15" descr=""/>
          <p:cNvPicPr/>
          <p:nvPr/>
        </p:nvPicPr>
        <p:blipFill>
          <a:blip r:embed="rId4"/>
          <a:stretch/>
        </p:blipFill>
        <p:spPr>
          <a:xfrm>
            <a:off x="3132000" y="847800"/>
            <a:ext cx="3562560" cy="561960"/>
          </a:xfrm>
          <a:prstGeom prst="rect">
            <a:avLst/>
          </a:prstGeom>
          <a:ln w="0">
            <a:noFill/>
          </a:ln>
        </p:spPr>
      </p:pic>
      <p:pic>
        <p:nvPicPr>
          <p:cNvPr id="270" name="Slika 16" descr=""/>
          <p:cNvPicPr/>
          <p:nvPr/>
        </p:nvPicPr>
        <p:blipFill>
          <a:blip r:embed="rId5"/>
          <a:stretch/>
        </p:blipFill>
        <p:spPr>
          <a:xfrm>
            <a:off x="6084720" y="1461960"/>
            <a:ext cx="2217960" cy="530280"/>
          </a:xfrm>
          <a:prstGeom prst="rect">
            <a:avLst/>
          </a:prstGeom>
          <a:ln w="0">
            <a:noFill/>
          </a:ln>
        </p:spPr>
      </p:pic>
      <p:pic>
        <p:nvPicPr>
          <p:cNvPr id="271" name="Slika 17" descr=""/>
          <p:cNvPicPr/>
          <p:nvPr/>
        </p:nvPicPr>
        <p:blipFill>
          <a:blip r:embed="rId6"/>
          <a:stretch/>
        </p:blipFill>
        <p:spPr>
          <a:xfrm>
            <a:off x="5834160" y="7308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272" name="Slika 18" descr=""/>
          <p:cNvPicPr/>
          <p:nvPr/>
        </p:nvPicPr>
        <p:blipFill>
          <a:blip r:embed="rId7"/>
          <a:stretch/>
        </p:blipFill>
        <p:spPr>
          <a:xfrm>
            <a:off x="755640" y="74448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273" name="Slika 19" descr=""/>
          <p:cNvPicPr/>
          <p:nvPr/>
        </p:nvPicPr>
        <p:blipFill>
          <a:blip r:embed="rId8"/>
          <a:stretch/>
        </p:blipFill>
        <p:spPr>
          <a:xfrm>
            <a:off x="4622760" y="847800"/>
            <a:ext cx="3679920" cy="561960"/>
          </a:xfrm>
          <a:prstGeom prst="rect">
            <a:avLst/>
          </a:prstGeom>
          <a:ln w="0">
            <a:noFill/>
          </a:ln>
        </p:spPr>
      </p:pic>
      <p:pic>
        <p:nvPicPr>
          <p:cNvPr id="274" name="Slika 20" descr=""/>
          <p:cNvPicPr/>
          <p:nvPr/>
        </p:nvPicPr>
        <p:blipFill>
          <a:blip r:embed="rId9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7FB-F7C0-4540-B3A4-62A36C6FEF2A}" type="slidenum"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imitrij.pur@gov.si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-at.eu/en2/" TargetMode="External"/><Relationship Id="rId2" Type="http://schemas.openxmlformats.org/officeDocument/2006/relationships/hyperlink" Target="http://www.si-hr.eu/si2/" TargetMode="External"/><Relationship Id="rId3" Type="http://schemas.openxmlformats.org/officeDocument/2006/relationships/hyperlink" Target="http://www.si-hu.eu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1f497d"/>
                </a:solidFill>
                <a:latin typeface="Calibri"/>
              </a:rPr>
              <a:t>5. REDNA SEJA ODBORA ZA SPREMLJANJE (Oz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1f497d"/>
                </a:solidFill>
                <a:latin typeface="Calibri"/>
              </a:rPr>
              <a:t>25. maj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1f497d"/>
                </a:solidFill>
                <a:latin typeface="Calibri"/>
              </a:rPr>
              <a:t>Predstavitev aktivnosti povezanimi z Makroregionalnimi strategijami EU in teritorialnim sodelovanjem v programskem obdobju 2014–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Dimitrij Pur, Vodja sektorja za upravljanje čezmejnih programov, namestnik  OU: Interreg SI-AT, SI-HU, SI-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mitrij.pur@gov.si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Slika 3" descr=""/>
          <p:cNvPicPr/>
          <p:nvPr/>
        </p:nvPicPr>
        <p:blipFill>
          <a:blip r:embed="rId1"/>
          <a:srcRect l="1315" t="3251" r="1759" b="3718"/>
          <a:stretch/>
        </p:blipFill>
        <p:spPr>
          <a:xfrm>
            <a:off x="1403280" y="-1440"/>
            <a:ext cx="6246720" cy="1809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24000" y="2060280"/>
            <a:ext cx="7858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sako leto predsedujoča država strategije organizira letni forum v sodelovanju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vropsko komisijo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USAIR Podporno toč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dnarodni projekt, VP SV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2"/>
          <a:stretch/>
        </p:blipFill>
        <p:spPr>
          <a:xfrm>
            <a:off x="5364000" y="4773600"/>
            <a:ext cx="28371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060640"/>
            <a:ext cx="82072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Letni Forum je največji dogodek strateg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ičakuje se prek 700 udeležencev iz 8 drž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Letos je poudarek na povezljivosti jadransko-jonske makroreg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TRANSPORT in ENERGETIKA pod sloga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ur Region, Our Future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Slika 12" descr=""/>
          <p:cNvPicPr/>
          <p:nvPr/>
        </p:nvPicPr>
        <p:blipFill>
          <a:blip r:embed="rId1"/>
          <a:srcRect l="1315" t="3251" r="1759" b="3718"/>
          <a:stretch/>
        </p:blipFill>
        <p:spPr>
          <a:xfrm>
            <a:off x="1403280" y="23760"/>
            <a:ext cx="62467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79280" y="2708280"/>
          <a:ext cx="8748720" cy="2600280"/>
        </p:xfrm>
        <a:graphic>
          <a:graphicData uri="http://schemas.openxmlformats.org/drawingml/2006/table">
            <a:tbl>
              <a:tblPr/>
              <a:tblGrid>
                <a:gridCol w="3864240"/>
                <a:gridCol w="1220760"/>
                <a:gridCol w="1220760"/>
                <a:gridCol w="1222200"/>
                <a:gridCol w="1220760"/>
              </a:tblGrid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-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-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-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IT-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0824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 in EU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14.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988.3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95.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.929.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bursement  (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EU  ETS avarage 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received applications on  Open  Ca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projects in implement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</a:tbl>
          </a:graphicData>
        </a:graphic>
      </p:graphicFrame>
      <p:sp>
        <p:nvSpPr>
          <p:cNvPr id="330" name="Ograda številke diapozitiva 2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6AD-C406-48B6-972C-937E7ECE27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oljeZBesedilom 1"/>
          <p:cNvSpPr/>
          <p:nvPr/>
        </p:nvSpPr>
        <p:spPr>
          <a:xfrm>
            <a:off x="1692360" y="1268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2e75b6"/>
                </a:solidFill>
                <a:latin typeface="Calibri"/>
              </a:rPr>
              <a:t>Interreg programi čezmejnega sodelov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Implementation reports 2017 - </a:t>
            </a:r>
            <a:r>
              <a:rPr b="1" lang="en-US" sz="2400" spc="-1" strike="noStrike">
                <a:solidFill>
                  <a:srgbClr val="2e75b6"/>
                </a:solidFill>
                <a:latin typeface="Calibri"/>
              </a:rPr>
              <a:t>Contribution of the </a:t>
            </a: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SI-AT, SI-HU, SI-HR </a:t>
            </a:r>
            <a:r>
              <a:rPr b="1" lang="en-US" sz="2400" spc="-1" strike="noStrike">
                <a:solidFill>
                  <a:srgbClr val="2e75b6"/>
                </a:solidFill>
                <a:latin typeface="Calibri"/>
              </a:rPr>
              <a:t>programme</a:t>
            </a: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2e75b6"/>
                </a:solidFill>
                <a:latin typeface="Calibri"/>
              </a:rPr>
              <a:t> to the</a:t>
            </a: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: </a:t>
            </a:r>
            <a:br>
              <a:rPr sz="4000"/>
            </a:br>
            <a:br>
              <a:rPr sz="40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-EU Strategy for the Danube Region (EUSDR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-EU Strategy for the Alpine Region (EUSALP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-EU Strategy for the Adriatic and Ionian Region (EUSAIR)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Ograda številke diapozitiva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0DB2-8361-4E3F-A601-15ED56C4E7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grada noge 4"/>
          <p:cNvSpPr/>
          <p:nvPr/>
        </p:nvSpPr>
        <p:spPr>
          <a:xfrm>
            <a:off x="3330720" y="625968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0738-E543-4709-8B86-7B764AEDB1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87280" y="2349360"/>
          <a:ext cx="6359760" cy="3994200"/>
        </p:xfrm>
        <a:graphic>
          <a:graphicData uri="http://schemas.openxmlformats.org/drawingml/2006/table">
            <a:tbl>
              <a:tblPr/>
              <a:tblGrid>
                <a:gridCol w="3184560"/>
                <a:gridCol w="3175200"/>
              </a:tblGrid>
              <a:tr h="1943280">
                <a:tc>
                  <a:txBody>
                    <a:bodyPr lIns="51840" rIns="51840" tIns="0" bIns="0" anchor="t">
                      <a:noAutofit/>
                    </a:bodyPr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1: "Connecting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  Mobility - Waterway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Mobility- Rail, road &amp; ai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3 Energy (TO6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4 Culture and Tourism (TO6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2: "Protecting the Environment in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 Priority Areas (with scroll bar selection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.2 Water Quality (TO6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.3 Environmental Risks (TO1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.4 Biodiversity, landscapes, air and soil quality (TO6c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920">
                <a:tc>
                  <a:txBody>
                    <a:bodyPr lIns="51840" rIns="5184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3: "Building Prosperity in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 Priority Areas (with scroll bar selection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2 Knowledge society (TO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3 Competitiveness (TO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4 People &amp; Skills( TO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4: "Strengthening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 Priority Areas (with scroll bar selection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 Institutional Capacity &amp; Cooperation (TO1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 Secur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3680" y="114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e75b6"/>
                </a:solidFill>
                <a:latin typeface="Calibri"/>
              </a:rPr>
              <a:t>EUSDR </a:t>
            </a:r>
            <a:r>
              <a:rPr b="1" lang="sl-SI" sz="2500" spc="-1" strike="noStrike">
                <a:solidFill>
                  <a:srgbClr val="2e75b6"/>
                </a:solidFill>
                <a:latin typeface="Calibri"/>
              </a:rPr>
              <a:t>(SI-HU 11.2 Mio, SI-AT 11.8 Mio, SI-HR 10.2 Mio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grada številke diapozitiva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0022-4D1B-4E0B-AA6C-A02658DEFD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grada noge 4"/>
          <p:cNvSpPr/>
          <p:nvPr/>
        </p:nvSpPr>
        <p:spPr>
          <a:xfrm>
            <a:off x="3330720" y="625968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Predmet 8"/>
          <p:cNvGraphicFramePr/>
          <p:nvPr/>
        </p:nvGraphicFramePr>
        <p:xfrm>
          <a:off x="-905040" y="1001880"/>
          <a:ext cx="9225000" cy="60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Predme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5040" y="1001880"/>
                    <a:ext cx="922500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3680" y="114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e75b6"/>
                </a:solidFill>
                <a:latin typeface="Calibri"/>
              </a:rPr>
              <a:t>EUSALP  (SI-AT 11.1 Mio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3"/>
          <a:stretch/>
        </p:blipFill>
        <p:spPr>
          <a:xfrm>
            <a:off x="1187280" y="2077920"/>
            <a:ext cx="63914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liennummernplatzhalter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6051-11C6-4375-83EF-E6DEFA9BAD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87280" y="1844640"/>
          <a:ext cx="6359760" cy="4272120"/>
        </p:xfrm>
        <a:graphic>
          <a:graphicData uri="http://schemas.openxmlformats.org/drawingml/2006/table">
            <a:tbl>
              <a:tblPr/>
              <a:tblGrid>
                <a:gridCol w="3184560"/>
                <a:gridCol w="3175200"/>
              </a:tblGrid>
              <a:tr h="22226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Pillar: "BLUE GROWTH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1 Blue technologi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2 Fisheries and aquacultur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3 Maritime and marine governance and servi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2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3 Capacity buil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Pillar: "CONNECTING TH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1 Maritime transpor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2 Intermodal connections to the hinter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3 Energy networ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2 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3 Capacity buil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94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Pillar: "ENVIRONMENTAL QUALITY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.1 The marin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.2 Transnational terrestrial habitats and biodivers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2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3 Capacity buil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Pillar: " SUSTAINABLE TOURISM 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1.1 Diversified tourism offer (products and servic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1.2 Sustainable and responsible tourism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management (innovation and quality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.2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.3 Capacity building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5252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2e75b6"/>
                </a:solidFill>
                <a:latin typeface="Calibri"/>
              </a:rPr>
              <a:t>EUSAIR</a:t>
            </a:r>
            <a:r>
              <a:rPr b="1" lang="sl-SI" sz="2800" spc="-1" strike="noStrike">
                <a:solidFill>
                  <a:srgbClr val="2e75b6"/>
                </a:solidFill>
                <a:latin typeface="Calibri"/>
              </a:rPr>
              <a:t> (SI-HR 8.5 Mi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803916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 Light"/>
              </a:rPr>
              <a:t>Več informacij na spletnih straneh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 Light"/>
              </a:rPr>
              <a:t>programov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000" y="2997000"/>
            <a:ext cx="78865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si-at.eu/en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si-hr.eu/si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si-hu.e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mitrij.pur@gov.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mitrij Pur, Vodja sektorja za upravljanje čezmejnih programov, namestnik  OU: Interreg SI-AT, SI-HU, SI-H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84080" y="480960"/>
            <a:ext cx="308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grada številke diapozitiva 4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0280-560B-42BB-B73C-8BBD7433F2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1:15:12Z</dcterms:created>
  <dc:creator>Dimitrij Pur</dc:creator>
  <dc:description/>
  <dc:language>en-US</dc:language>
  <cp:lastModifiedBy>Dimitrij Pur</cp:lastModifiedBy>
  <cp:lastPrinted>2018-05-24T12:44:26Z</cp:lastPrinted>
  <dcterms:modified xsi:type="dcterms:W3CDTF">2018-05-24T13:11:17Z</dcterms:modified>
  <cp:revision>23</cp:revision>
  <dc:subject/>
  <dc:title>PowerPointova predstavitev</dc:title>
</cp:coreProperties>
</file>